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2F33-8D5D-4652-B651-3E29BC07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57D-F562-460F-A59A-6D022CA7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F072-5AAA-4D2E-BFC1-050E0734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898-B577-4C3D-8D35-D9848E0F2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7E74-4631-40A5-8807-9B855698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20A-8C35-497C-8BA3-82B4A271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674-E250-4A31-AAFD-0E0BF9E2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D8B-2B60-4831-A13B-48BA08C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C55-78C3-4EC7-B12E-35D5C789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358-4D3D-4D7B-A9A6-875B09D7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504-10BF-4E28-9DD7-05BC2A02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917-6ACA-4034-A836-ED5CDEA2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4CA-C4A7-441B-B3EE-53A3854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813-7D26-4207-8F10-BC25EA2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EA7-0C65-4302-9428-7C9D6E3B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9A5-C671-4EF5-9D7D-14B86B0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98D-F1DD-4ED8-A378-2FA9616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D17-0007-495E-AC7F-AA327A33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BFA-620E-4E08-B799-84DD5F0F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images.google.com/imgres?imgurl=http://images.usatoday.com/news/_photos/2006/09/25/somalia_thumb.jpg&amp;imgrefurl=http://asp.usatoday.com/community/tags/topic.aspx%3Freq%3Dtag%26pg%3D59%26tag%3DKenya&amp;h=169&amp;w=123&amp;sz=7&amp;hl=en&amp;start=12&amp;um=1&amp;usg=__jFcEZVwH4vI_kZ6PRZTfvyHTX1E=&amp;tbnid=2aoL6Luz1zi_yM:&amp;tbnh=99&amp;tbnw=72&amp;prev=/images%3Fq%3DMuhammad%2BSiad%2BBarre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Curlz MT"/>
              </a:rPr>
              <a:t>So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: Brandi Turner-K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Mr. H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loc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5e7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About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malia’s flag was adopted on October 12,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flag was designed by a person named Mohammed Awale Li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flag was intended to look like the flag of the United Nation, because the helped them gain independence from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lag of Somalia"/>
          <p:cNvPicPr/>
          <p:nvPr/>
        </p:nvPicPr>
        <p:blipFill>
          <a:blip r:embed="rId1"/>
          <a:stretch/>
        </p:blipFill>
        <p:spPr>
          <a:xfrm>
            <a:off x="6553080" y="457200"/>
            <a:ext cx="1981440" cy="121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ff00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Edwardian Script ITC"/>
              </a:rPr>
              <a:t>The location of So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The Somalia is known as Somali Democratic Re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It is locate in the horns of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Somalia is bordered by Djibouti  in the northwest, Kenya on its southwest, the Gulf of Aden with Yemen to its north, and the Indian Ocean to its 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somalia-map"/>
          <p:cNvPicPr/>
          <p:nvPr/>
        </p:nvPicPr>
        <p:blipFill>
          <a:blip r:embed="rId2"/>
          <a:stretch/>
        </p:blipFill>
        <p:spPr>
          <a:xfrm>
            <a:off x="4648320" y="16002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ench Script MT"/>
              </a:rPr>
              <a:t>important dat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Mohamed was a self-proclaimed socialist president of Somalia from 1969 to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While he was in reign the military staged a coup and took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He attempted to develop a personality 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Mohamed came out of reign when the country started to fall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4648320" y="1609560"/>
          <a:ext cx="4038480" cy="45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9560"/>
                    <a:ext cx="403848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7" descr="somalia_thu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266688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barre"/>
          <p:cNvPicPr/>
          <p:nvPr/>
        </p:nvPicPr>
        <p:blipFill>
          <a:blip r:embed="rId5"/>
          <a:stretch/>
        </p:blipFill>
        <p:spPr>
          <a:xfrm>
            <a:off x="4800600" y="2133720"/>
            <a:ext cx="1676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Important date #2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Lucida Handwriting"/>
              </a:rPr>
              <a:t>The during the first two decades the nineteen hundreds, Somalia was ruled by Britain. The Britain was challenged by persistent attacks by a rebellion led by Mohamed Abdullah, known and the “Mad Mullah”, by British people. A long series of intermittent engagements and truces ended in  1920 when British warplanes bombed Abdullah’s stronghold at Taleex. Although Abdullah was defeated, he was lauded as a popular hero and stands as a major figure of national identity to many Somalis</a:t>
            </a:r>
            <a:r>
              <a:rPr b="0" lang="en-US" sz="2400" spc="-1" strike="noStrike">
                <a:solidFill>
                  <a:srgbClr val="00ff00"/>
                </a:solidFill>
                <a:latin typeface="Lucida Handwrit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5e7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Important dat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In 1977, the  Ogaden War started between Somalia and Ethiop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The Ethiopian’s troops defeated the Somalis tro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The war ended in 1978, but Ethiopia and Somalia are still big rival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radley Hand ITC"/>
              </a:rPr>
              <a:t>Current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Perpetua"/>
              </a:rPr>
              <a:t>There is no national government in Somalia. Part of Somalia is self-declared Republic of Somali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The 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Sorgh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Q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Machin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Char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H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I think that Somalia might grow because of their agriculture, but their government might make is go downhill because they really don’t have a government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4:49Z</dcterms:created>
  <dc:creator>branditurner</dc:creator>
  <dc:description/>
  <dc:language>en-US</dc:language>
  <cp:lastModifiedBy>LCS_user</cp:lastModifiedBy>
  <dcterms:modified xsi:type="dcterms:W3CDTF">2008-11-21T18:54:28Z</dcterms:modified>
  <cp:revision>6</cp:revision>
  <dc:subject/>
  <dc:title>Somalia</dc:title>
</cp:coreProperties>
</file>